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4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ftr" idx="4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 type="sldNum" idx="4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0BAF36D-3188-448F-917B-AF363CFB5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9B37F2-2DF4-4AF3-936C-923A7A9C6AFF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110-3D67-4412-8E0C-1550F306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76D-8A5B-4533-936F-F58BB637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23395-1781-4736-9E68-609A8C65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266B4-99BA-41B6-A2FD-F37A6050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71509-C1DE-4501-A7D2-FADFAB2E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65B09-B1E5-4907-8D72-72A345A5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56958-8DF6-4D1B-903A-6188AB95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AD522-A2A6-4947-928E-7A819BDA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1D75D-B2DE-4B32-955F-233EDE6E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38E47-1D9E-482D-9974-EC65A455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9A04D-DA90-45E4-B1A3-FEBA71C9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6D07A-1F81-4A0B-81C8-090352CE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9E5-7B75-4AA1-B7CA-F223FE66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97329-B1E6-400F-AF20-D6CA343E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AC1E9-6476-4DC6-A6C6-03202FD1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49632-5044-4628-AE6E-0C9C7D83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10C4B-2CA2-4DDB-A6BF-5BD4C13C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9BBE9-A077-4FA4-B1A5-E1359C2E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93C28-25B0-4E1E-9BF3-62B64A7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BA744-9533-4A5B-B782-C9786C39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E4A20-2E48-4341-BD24-51F160F0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7AF46-DAFB-45B2-907F-CB0979C8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57DB5-C38E-453B-9E0C-C8E268D4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379-7854-445B-878E-F613E58D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C7913-0D49-4533-B89D-0661282B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30055-DCAC-4ACD-A261-A2269194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E9BE9-E710-4AF7-B8E7-E02C1623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4DDCE-3E94-41A5-9AC8-6C947B31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4CC66-B77E-4E42-873D-60B267B4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4CCF7-0E5A-4BC8-A369-D07F0A4C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32188-8D1B-4ACD-8CE7-FD8641C0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19806-428F-466E-9523-B1DCE9AE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DE06D-7FB0-41B5-90D6-140515FF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FA037-92E1-4DB7-BCA6-6B187873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4B3A-7433-49AC-9E0C-403CFE3B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76D58-01CD-494F-8E44-39EEDFE4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7420D-551D-4082-B6F9-18F68784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C97DB-CDB8-415E-ADAC-6279C563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C8F47-5A9D-4642-BF56-F94AB6FC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BFF28-7368-44D1-A03A-AD277D6C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01771-ADAB-4AD8-8D9F-CFB2ABCB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6BD35-9759-4697-8C30-46E31390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782E7-DC22-4FAD-B547-FA5D4A19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5EAA1-F098-45D0-8574-6F7F7CDA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F495A-20C8-4D56-8C0A-7374169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64CE-AA14-4968-8687-2CA578A1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502D3-DB0B-4B17-A965-9E589AD8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BF696-E00E-46BF-A07C-EDEA2A0F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B5B51-4B79-475B-8263-1AEA0988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1F983-3523-4C83-8B14-2C9AB4C7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D177B-4EAA-47D2-8F68-B7E54109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571E3-8A8C-4738-89A3-10A79DB1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25FF8-0F76-4885-B0D9-978E7264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68DAF-68D1-4953-A866-9BB8BCA1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A2FDB-75F5-4117-B344-3925424F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BE219-281C-4626-8F48-7F70DC89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FEBE-52D0-4980-9B28-637BDBE0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60B28-FE9F-4D16-8FB1-70E1AB07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23FC8-9A63-4C61-81A8-CDA55BEB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DE2C0-F19D-4A56-BEAA-6D988257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BBAFC-D104-40BE-B00C-758C8C10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F52FE-A682-4F3D-9DBD-B759079E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0D848-39CD-4755-9271-DC2E5F62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90063-CDF1-4E17-9DEE-9B70FC81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1E795-049C-4554-A54D-7F0C1613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F56A4-6067-4185-A3C2-3ECB2744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A3E76-A4D8-4907-BB55-159E282B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8CE8-15A0-4BD9-92CC-1DE1DA8C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BB175-E49D-4D36-A4AB-AEF22B38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3FE70-0C7F-41D2-B531-D1A8C53A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95D22-F026-4F08-908A-BE232337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E0388C-885E-44EF-9DE2-61FDCCF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FDC6F-328B-49E2-A1F1-A03ED271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A6F30-C626-45F3-B1F3-AC488FC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7DFE0-5C52-4562-A179-697B3847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D0C44-C55F-43D6-802B-65E775CE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9D549-3E95-4568-AA3E-24986195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658E2-1C47-46A5-9BDC-05954BCB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73E5-4DD3-4147-ADF9-FCB38C7F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03498-3BF0-4262-9C35-60D5FCCD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7F3E6-5DD3-49BA-96E6-D35B1F6C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C4F0E-5DEE-4EB8-B34A-74EE88BE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03558-DB51-4A8B-A40A-B82DCE1E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6F02AD-A474-415C-A1DB-C67BCB21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EF1A1-581B-40B2-8446-1CC34A33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CC703-67AA-4DE6-8AF5-AAAB9E65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BFDF5-F2BF-45E2-85E6-80E1E78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00018D-BAEA-4D0A-806F-28FBFE57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92ABC-312B-4AC1-9204-9AD6F4C1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8354-BE85-4B79-9854-556E1631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1166C-C74C-428F-BC25-F8BE5D1E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9F36-938E-4E0B-861E-73C5444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005-6277-43FC-A32C-7C5B03FF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35F4-86F3-4232-866B-897FDE1B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A404-C981-4BD8-8B11-E059E0F1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91A2-9628-4EF9-8CAB-1B66ED8F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1B2F-6721-43ED-88E5-34209A09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8C1E-9E82-406A-BC1F-AE7D7F2D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AA9D-0673-4763-B300-C2C5199F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BFD9-92CF-40D0-9DFB-CBAFF5FA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D3FBB-EAAB-408E-82FB-98D1A41D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09A8-35DA-42DA-9FD6-B5570554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64C2-BE4F-424E-8211-186258F6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4EF-802C-4F6C-B40C-D0C3F236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D690-F62F-45FF-8C73-B7999156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356D-162F-4BD5-98C0-865C7518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0834-AF49-428C-9546-7E5F97D4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F488-9E4D-4402-89AE-6DAEF9EF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5A53-7291-4B14-862D-554BD77D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F056-25F1-4B57-892C-F4C2CC89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AF73-D578-4F77-919B-4130948E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C31E-095E-4FC1-9788-CABA11C5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3FFD-9FFA-4FAA-B829-D2592006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E01D-938D-4708-AFE5-CCAC02FA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45B-1000-41B0-9376-5F189F1E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EC83-5B7E-4D1F-835B-636D76F8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E656-7F88-4243-95F8-8D3A5F17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4C2F7-D63F-46E0-9B8F-BA94C7F4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32A9-614C-4B60-8E82-6D0F06A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A0F6-163F-4009-832A-D51F7BC2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5C9D-500F-4D1F-A132-37747036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9A89A-6F79-4C3C-A445-5F862F4D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C40B-DD28-4652-9FD8-7F474C95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F14E4-52D4-4642-9B97-73CFC7F7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EEC52-A7D2-4C32-8FEC-D3B898A7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689-C699-4111-93E9-FBBFB460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DDDD-23CF-4028-BC14-9FF702B1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D878-305A-499C-9233-D54CEC1F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6C8FA-4AB6-4B27-AB7D-0F83C29E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09AF3-01B9-4AAF-A31E-95B645F6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CC143-E0B7-4D4E-A337-3CE14877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F3662-274C-453D-8CC0-DD023E8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68699-7DDB-4BB2-A766-21B8E14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C0B81-3CA7-4D35-A4A0-E0790427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62E53-11F2-4CD8-AA7B-81BFFB59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97624-A708-4670-B061-A4FFCDB3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A02-C610-40A1-8711-0AF85884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822FF-B903-40F2-A8AF-21F48EF4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9286B-10E0-4256-B723-2E633692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D55E7-378A-4BE0-98E1-A453CF3C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C973C-98E1-400C-A14C-559F0222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B4E33-FE6F-4F07-8CCD-36AA6825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25F3C-2B10-4F1A-9D1D-284AC299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53288-7AB7-48E9-BB6E-B2156C9C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23019-8CA4-432A-B6A6-A82A0DD6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D04B-AFE1-4D08-9F46-40D7856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20368-D9B5-4495-B825-ECA0BC74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D4D-FD83-4C28-B2BC-61347321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F23E7-F534-4CF2-9AAA-C418C256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207D6-4F83-423C-9C00-FE1EC087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A8F4D-6253-409A-AFBD-E3FC4029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A62BD-4F8D-4163-A293-050D49B7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C4E7C-470B-4EEC-B07B-1CB9D10F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D7E58-12E5-4E1C-9508-8078EEFE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525D2-AC62-4A8B-B24D-132A9423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FA900-E4A3-4585-B426-64A4859F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8D573-BB74-45A9-B198-E94930F8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B7379-9051-44A9-814C-B9CDFE1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EEA-2D57-4F35-9F84-219D8166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B4651-93DC-4161-94E8-4F4A060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5EB15-F5FD-4A81-9B4D-F233F691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C4044-810A-429A-9D43-85DD25A7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5FA09-8ED6-4CE2-84AB-183915A7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240B5-13A5-4FFD-BC11-29C366BA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278CC-46D8-4E7E-8123-7749D970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9BE6B-E19E-4893-B46E-94ED0A7E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38441-C985-46AF-B34A-B882908E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21D44-FB2A-4E43-8DEF-1F8607EF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84836-5D97-4B2F-8C6E-D594D4E0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7FC-EDB0-4D7E-8A9E-7E04C2AB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32641-6210-4529-A4FB-8040864E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17245-0E78-46B6-AA47-2D53DB3E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07456-6BE1-4A78-8409-CFE2AD6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7FFC9-52F7-43A7-BC95-91CA8FC6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B76C1-7D83-4F6F-AC40-7889CAE9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CEC82-04DC-4255-9FF5-6E8505A4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CD1D0-4CD5-4789-9016-C0C97DF0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8ECAF-117A-405B-A6DF-66EB2160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C6F55-3056-479F-8A22-B20A10E8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07A63-7956-434B-A694-B26B7B97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vation through 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FCCC-29B8-4E6F-B359-6CDE61112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blue NSF Logo"/>
          <p:cNvPicPr/>
          <p:nvPr/>
        </p:nvPicPr>
        <p:blipFill>
          <a:blip r:embed="rId2"/>
          <a:srcRect l="5926" t="0" r="0" b="6486"/>
          <a:stretch/>
        </p:blipFill>
        <p:spPr>
          <a:xfrm>
            <a:off x="0" y="5985000"/>
            <a:ext cx="905040" cy="8269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2"/>
          <p:cNvSpPr/>
          <p:nvPr/>
        </p:nvSpPr>
        <p:spPr>
          <a:xfrm rot="10800000">
            <a:off x="3240" y="-16200"/>
            <a:ext cx="914400" cy="5941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Science Foundation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DISCOVERIES BEGI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E8B0-F524-48CD-B497-D52571CACA2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05CE-11A4-4109-B353-CE91C1E1A92C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7F49-57DE-4AA4-A0FA-B207B989666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893B-91A5-434C-888B-272746A10DB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C428-2F32-4A22-AB4C-4591A8CCA705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F415-B4D6-435D-95FF-AE3AA8E023C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B9BD-ED80-476E-996F-7EAAFFA10AC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1" descr="blue NSF Logo"/>
          <p:cNvPicPr/>
          <p:nvPr/>
        </p:nvPicPr>
        <p:blipFill>
          <a:blip r:embed="rId2"/>
          <a:srcRect l="5926" t="0" r="0" b="6486"/>
          <a:stretch/>
        </p:blipFill>
        <p:spPr>
          <a:xfrm>
            <a:off x="0" y="5985000"/>
            <a:ext cx="905040" cy="826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2"/>
          <p:cNvSpPr/>
          <p:nvPr/>
        </p:nvSpPr>
        <p:spPr>
          <a:xfrm rot="10800000">
            <a:off x="3240" y="-16200"/>
            <a:ext cx="914400" cy="5941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Science Foundation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DISCOVERIES BEGI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9"/>
          <p:cNvSpPr/>
          <p:nvPr/>
        </p:nvSpPr>
        <p:spPr>
          <a:xfrm rot="10800000">
            <a:off x="3240" y="0"/>
            <a:ext cx="9144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Science Foundation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DISCOVERIES BEGI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vation through 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C960-BF63-4F76-BFE5-F6F4F3A00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06E2-534D-4A8E-8963-04E8350D01B8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45CE-D4BF-4F9C-A8F0-C5035455793F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FE52-8BED-40D0-9813-D6EF415407E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DEE9-B063-40A6-9255-C346D50494E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4204-D08D-4529-AD21-5D33A166C18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6784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c6f6"/>
                </a:solidFill>
                <a:latin typeface="Century Gothic"/>
              </a:rPr>
              <a:t>Click to edit the title text format</a:t>
            </a:r>
            <a:endParaRPr b="1" lang="en-US" sz="4200" spc="-1" strike="noStrike">
              <a:solidFill>
                <a:srgbClr val="90c6f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0c6f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0c6f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0c6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4d6f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Directorate for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818352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B80B-87E0-473F-95C6-D1F81D29565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65160" y="585360"/>
            <a:ext cx="8153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ject 3: Effect of Branching on Flow-Induced Crystallization and Crystalline Orientation of Polyolef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965160" y="2463480"/>
            <a:ext cx="815328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’s: Mike Solom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Greg Beaucag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yan Brees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on Lars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: Jan Ilavsk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Jimmy May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Nikos Hadjichristidi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Univ. Michigan; 2 Univ. Cincinnati; 3 Eclipse Film Technologies; 4 Argonne National Lab; 5 Univ. Tennessee/ORNL; 6 Univ. Athens/KAU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d Budget:  $150,000/year; In Kind Support Eclipse Film Technologies $75,000/year, Argonne National Lab $25,000/year, ORNL $25,000/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uration: 4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5" descr="TIFF_CMT_LOGO.tif"/>
          <p:cNvPicPr/>
          <p:nvPr/>
        </p:nvPicPr>
        <p:blipFill>
          <a:blip r:embed="rId1"/>
          <a:stretch/>
        </p:blipFill>
        <p:spPr>
          <a:xfrm>
            <a:off x="4010040" y="5923080"/>
            <a:ext cx="1730520" cy="93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969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66bb"/>
                </a:solidFill>
                <a:latin typeface="Calibri"/>
              </a:rPr>
              <a:t>Master curve behavior: effect of shear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1020600" y="1033560"/>
            <a:ext cx="7848720" cy="759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1020600" y="6080040"/>
            <a:ext cx="812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For PP nanocomposites, effect appears to scale with strain over range probe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6" name="Picture 13" descr=""/>
          <p:cNvPicPr/>
          <p:nvPr/>
        </p:nvPicPr>
        <p:blipFill>
          <a:blip r:embed="rId1"/>
          <a:stretch/>
        </p:blipFill>
        <p:spPr>
          <a:xfrm>
            <a:off x="1447920" y="355680"/>
            <a:ext cx="6858000" cy="650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969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66bb"/>
                </a:solidFill>
                <a:latin typeface="Calibri"/>
              </a:rPr>
              <a:t>Project will present a comprehensive understanding of topological control over crystallinity in proc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1020600" y="1477800"/>
            <a:ext cx="7848720" cy="763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Box 1"/>
          <p:cNvSpPr/>
          <p:nvPr/>
        </p:nvSpPr>
        <p:spPr>
          <a:xfrm>
            <a:off x="1422360" y="1879560"/>
            <a:ext cx="730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Growth rate and structural effects under controlled shea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In situ and ex situ orientation studies of crystallographic and nano-struct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Study of cold drawing through MDO processing of films produced from branched polyolefi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Use of model polymers and commercial grade polyme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/Deliver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5EB8-D8AC-499B-90E9-AD0FFE11BE19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52640" y="10936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ion of polyolefin branching structure on crystallization kinetics, crystallization morphology (e.g. spherulite size and density) and ori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fication of effect of linear and long- and short-chain branched fraction on polyolefin crystallization kinetics and morph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ments of interaction of branching structure and shear deformation on crystallization kinetics, orientation and morph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of scattering and rheological tools to probe effect of branching on crystal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1F9A-1383-4E0D-B513-071314633A46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ability to link long chain branching structure to crystallization kinetics, crystallization morphology and orientation of polyolef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to manipulate crystallite morphology (e.g. size, density and orientation) by means of polyolefin branching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ing/structure interaction in long and short chain-branched polyolef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6816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or work and project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990720" y="1115640"/>
            <a:ext cx="81532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b-shaped long-chain branched molecule added at approximately the overlap concentration significantly increased the crystallization kinetics of a hydrogenated polybutadiene ble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tactic polypropylenes of varying branching index showed enhanced crystallization kinetics and oriented crystallites due to long chain branchin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74AA-DE35-40C7-B339-033EAEE88574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098720" y="5756400"/>
            <a:ext cx="7570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E.L. Heeley et al., “Shear-induced crystallization in blends of model linear and long-chain branched hydrogenated polybutadienes,” Macromolecules, 39, 5058 (2006).)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.K. Agarwal et al, “Shear-induced crystallization in novel long chain branched polypropylenes by in situ rheo-SAXS and -WAXD,” Macromolecules, 36, 5226 (2003)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Box 1"/>
          <p:cNvSpPr/>
          <p:nvPr/>
        </p:nvSpPr>
        <p:spPr>
          <a:xfrm>
            <a:off x="973080" y="39466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extend the state-of-the-art, we should apply an integrated set of scattering, rheology and modeling studies to a series of polyolefin materials in which long-chain branch structure is homologously varied.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6816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or work and project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990720" y="1115640"/>
            <a:ext cx="81532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ucage in collaborative work with LyondellBasell over a number of years has published in this area , J. of Polym. Sci. B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2923-36 (2001)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1834-44 (2007)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607-18 (2008); Polym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3103-13 (2001)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1103-15 (2003); Curr. Opin. In Sol. St. Mat. Sci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436-48 (2004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papers detail the use of SAXS and WAXS to understand the relationship between the properties of polyolefin films and the nano- and crystallographic structure and orien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entation in processed films is linked to long chain branch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AFEC-87EB-453F-86CD-AE0FD063BF8A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002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lementary Mate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5A4A-1675-43C7-A75B-2DF867C5E5DE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1054080" y="26676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4"/>
          <p:cNvSpPr/>
          <p:nvPr/>
        </p:nvSpPr>
        <p:spPr>
          <a:xfrm>
            <a:off x="1054080" y="6240600"/>
            <a:ext cx="476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fna/Beaucage et al. Polymer 44, 1103-15 (2003)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omic Sans MS"/>
              </a:rPr>
              <a:t>Innovation through Partnership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39DD-37F7-445A-843D-6267654A797B}" type="slidenum">
              <a:rPr b="1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5" name="Picture 8" descr=""/>
          <p:cNvPicPr/>
          <p:nvPr/>
        </p:nvPicPr>
        <p:blipFill>
          <a:blip r:embed="rId1"/>
          <a:stretch/>
        </p:blipFill>
        <p:spPr>
          <a:xfrm>
            <a:off x="982800" y="63360"/>
            <a:ext cx="8161200" cy="61214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4"/>
          <p:cNvSpPr/>
          <p:nvPr/>
        </p:nvSpPr>
        <p:spPr>
          <a:xfrm>
            <a:off x="1219320" y="6105600"/>
            <a:ext cx="516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reese/Beaucage et al. J. of Polym. Sci. B 46, 607-18 (2008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1219320" y="2336760"/>
            <a:ext cx="374652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70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66bb"/>
                </a:solidFill>
                <a:latin typeface="Calibri"/>
              </a:rPr>
              <a:t>Shear-induced crystallization of polypropyl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717480" y="1143000"/>
            <a:ext cx="7848720" cy="763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0" name="Picture 4" descr="_x0013_crystallization.jpg                                            0001BF14_x000c_Macintosh HD                   B7A6BE58:"/>
          <p:cNvPicPr/>
          <p:nvPr/>
        </p:nvPicPr>
        <p:blipFill>
          <a:blip r:embed="rId1"/>
          <a:stretch/>
        </p:blipFill>
        <p:spPr>
          <a:xfrm>
            <a:off x="4451400" y="1432080"/>
            <a:ext cx="4251240" cy="277308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4849560" y="6386400"/>
            <a:ext cx="35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(Kumaraswamy et al., 1999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4375080" y="4962600"/>
            <a:ext cx="4496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patially dependent PP crystallization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 cross slot flow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gap = 0.5 mm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0.05 MPa, ts = 4 s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6509160" y="4067280"/>
            <a:ext cx="22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cross slot flow profil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8"/>
          <p:cNvSpPr/>
          <p:nvPr/>
        </p:nvSpPr>
        <p:spPr>
          <a:xfrm>
            <a:off x="4375080" y="4067280"/>
            <a:ext cx="20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Polarized light micrograph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4759560" y="143208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51f25"/>
                </a:solidFill>
                <a:latin typeface="Comic Sans MS"/>
              </a:rPr>
              <a:t>spherulitic cor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10"/>
          <p:cNvSpPr/>
          <p:nvPr/>
        </p:nvSpPr>
        <p:spPr>
          <a:xfrm>
            <a:off x="6265800" y="18716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51f25"/>
                </a:solidFill>
                <a:latin typeface="Comic Sans MS"/>
              </a:rPr>
              <a:t>oriented ski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11"/>
          <p:cNvSpPr/>
          <p:nvPr/>
        </p:nvSpPr>
        <p:spPr>
          <a:xfrm flipH="1">
            <a:off x="5137200" y="1752480"/>
            <a:ext cx="533520" cy="990720"/>
          </a:xfrm>
          <a:prstGeom prst="line">
            <a:avLst/>
          </a:prstGeom>
          <a:ln w="57240">
            <a:solidFill>
              <a:srgbClr val="c51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Line 12"/>
          <p:cNvSpPr/>
          <p:nvPr/>
        </p:nvSpPr>
        <p:spPr>
          <a:xfrm flipH="1">
            <a:off x="5137200" y="2514600"/>
            <a:ext cx="1447920" cy="990720"/>
          </a:xfrm>
          <a:prstGeom prst="line">
            <a:avLst/>
          </a:prstGeom>
          <a:ln w="57240">
            <a:solidFill>
              <a:srgbClr val="c51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13"/>
          <p:cNvSpPr/>
          <p:nvPr/>
        </p:nvSpPr>
        <p:spPr>
          <a:xfrm>
            <a:off x="1036800" y="1871640"/>
            <a:ext cx="3200400" cy="4069080"/>
          </a:xfrm>
          <a:prstGeom prst="rect">
            <a:avLst/>
          </a:prstGeom>
          <a:noFill/>
          <a:ln w="936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•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ystallization kinetics and morphology affected by shea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•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rolled experiments with short shear times best model processing conditions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Liedauer et al., 1993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ystallization time depends on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and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Text Box 14"/>
          <p:cNvSpPr/>
          <p:nvPr/>
        </p:nvSpPr>
        <p:spPr>
          <a:xfrm>
            <a:off x="2634840" y="510552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Comic Sans MS"/>
              </a:rPr>
              <a:t>•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Rectangle 15"/>
          <p:cNvSpPr/>
          <p:nvPr/>
        </p:nvSpPr>
        <p:spPr>
          <a:xfrm>
            <a:off x="4222800" y="1447920"/>
            <a:ext cx="464832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843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66bb"/>
                </a:solidFill>
                <a:latin typeface="Calibri"/>
              </a:rPr>
              <a:t>Methods: light scat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1008000" y="762120"/>
            <a:ext cx="7848720" cy="759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2075040" y="1189080"/>
            <a:ext cx="6933600" cy="5325120"/>
            <a:chOff x="2075040" y="1189080"/>
            <a:chExt cx="6933600" cy="5325120"/>
          </a:xfrm>
        </p:grpSpPr>
        <p:grpSp>
          <p:nvGrpSpPr>
            <p:cNvPr id="675" name="Group 5"/>
            <p:cNvGrpSpPr/>
            <p:nvPr/>
          </p:nvGrpSpPr>
          <p:grpSpPr>
            <a:xfrm>
              <a:off x="2075040" y="5143320"/>
              <a:ext cx="1560240" cy="900360"/>
              <a:chOff x="2075040" y="5143320"/>
              <a:chExt cx="1560240" cy="900360"/>
            </a:xfrm>
          </p:grpSpPr>
          <p:sp>
            <p:nvSpPr>
              <p:cNvPr id="676" name="Text Box 6"/>
              <p:cNvSpPr/>
              <p:nvPr/>
            </p:nvSpPr>
            <p:spPr>
              <a:xfrm>
                <a:off x="2075040" y="5143320"/>
                <a:ext cx="1560240" cy="90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eq. Doubled Nd-Yag</a:t>
                </a:r>
                <a:endParaRPr b="1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= 532 nm</a:t>
                </a:r>
                <a:endParaRPr b="1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7" name="Object 7"/>
                  <p:cNvSpPr txBox="1"/>
                  <p:nvPr/>
                </p:nvSpPr>
                <p:spPr>
                  <a:xfrm>
                    <a:off x="2455920" y="5730120"/>
                    <a:ext cx="207360" cy="250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λ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78" name="Text Box 8"/>
            <p:cNvSpPr/>
            <p:nvPr/>
          </p:nvSpPr>
          <p:spPr>
            <a:xfrm>
              <a:off x="3722760" y="6124320"/>
              <a:ext cx="1229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Line 9"/>
            <p:cNvSpPr/>
            <p:nvPr/>
          </p:nvSpPr>
          <p:spPr>
            <a:xfrm>
              <a:off x="3635280" y="5606640"/>
              <a:ext cx="98856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0" name="Group 10"/>
            <p:cNvGrpSpPr/>
            <p:nvPr/>
          </p:nvGrpSpPr>
          <p:grpSpPr>
            <a:xfrm>
              <a:off x="3598920" y="5449680"/>
              <a:ext cx="1110600" cy="1041840"/>
              <a:chOff x="3598920" y="5449680"/>
              <a:chExt cx="1110600" cy="1041840"/>
            </a:xfrm>
          </p:grpSpPr>
          <p:sp>
            <p:nvSpPr>
              <p:cNvPr id="681" name="Rectangle 11"/>
              <p:cNvSpPr/>
              <p:nvPr/>
            </p:nvSpPr>
            <p:spPr>
              <a:xfrm>
                <a:off x="4103640" y="5449680"/>
                <a:ext cx="97920" cy="296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Object 12"/>
                  <p:cNvSpPr txBox="1"/>
                  <p:nvPr/>
                </p:nvSpPr>
                <p:spPr>
                  <a:xfrm>
                    <a:off x="3954240" y="5800320"/>
                    <a:ext cx="320400" cy="39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λ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83" name="Text Box 13"/>
              <p:cNvSpPr/>
              <p:nvPr/>
            </p:nvSpPr>
            <p:spPr>
              <a:xfrm>
                <a:off x="3598920" y="6154200"/>
                <a:ext cx="111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waveplate</a:t>
                </a:r>
                <a:endParaRPr b="1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84" name="Text Box 14"/>
            <p:cNvSpPr/>
            <p:nvPr/>
          </p:nvSpPr>
          <p:spPr>
            <a:xfrm>
              <a:off x="5057640" y="5972040"/>
              <a:ext cx="137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cusing lens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Text Box 15"/>
            <p:cNvSpPr/>
            <p:nvPr/>
          </p:nvSpPr>
          <p:spPr>
            <a:xfrm>
              <a:off x="4360680" y="5767200"/>
              <a:ext cx="108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larizer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Text Box 16"/>
            <p:cNvSpPr/>
            <p:nvPr/>
          </p:nvSpPr>
          <p:spPr>
            <a:xfrm>
              <a:off x="7329600" y="3924000"/>
              <a:ext cx="167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imating lens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17"/>
            <p:cNvSpPr/>
            <p:nvPr/>
          </p:nvSpPr>
          <p:spPr>
            <a:xfrm>
              <a:off x="4924440" y="5598720"/>
              <a:ext cx="72036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Rectangle 18"/>
            <p:cNvSpPr/>
            <p:nvPr/>
          </p:nvSpPr>
          <p:spPr>
            <a:xfrm>
              <a:off x="4629240" y="5441760"/>
              <a:ext cx="291600" cy="309240"/>
            </a:xfrm>
            <a:prstGeom prst="rect">
              <a:avLst/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19"/>
            <p:cNvSpPr/>
            <p:nvPr/>
          </p:nvSpPr>
          <p:spPr>
            <a:xfrm flipV="1">
              <a:off x="4630680" y="5446440"/>
              <a:ext cx="28368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90" name="Group 20"/>
            <p:cNvGrpSpPr/>
            <p:nvPr/>
          </p:nvGrpSpPr>
          <p:grpSpPr>
            <a:xfrm>
              <a:off x="4960800" y="4160520"/>
              <a:ext cx="2102760" cy="2353680"/>
              <a:chOff x="4960800" y="4160520"/>
              <a:chExt cx="2102760" cy="2353680"/>
            </a:xfrm>
          </p:grpSpPr>
          <p:sp>
            <p:nvSpPr>
              <p:cNvPr id="691" name="Text Box 21"/>
              <p:cNvSpPr/>
              <p:nvPr/>
            </p:nvSpPr>
            <p:spPr>
              <a:xfrm>
                <a:off x="6305040" y="5933520"/>
                <a:ext cx="75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irror</a:t>
                </a:r>
                <a:endParaRPr b="1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2" name="Group 22"/>
              <p:cNvGrpSpPr/>
              <p:nvPr/>
            </p:nvGrpSpPr>
            <p:grpSpPr>
              <a:xfrm>
                <a:off x="5635080" y="5294880"/>
                <a:ext cx="246960" cy="609120"/>
                <a:chOff x="5635080" y="5294880"/>
                <a:chExt cx="246960" cy="609120"/>
              </a:xfrm>
            </p:grpSpPr>
            <p:sp>
              <p:nvSpPr>
                <p:cNvPr id="693" name="Oval 23"/>
                <p:cNvSpPr/>
                <p:nvPr/>
              </p:nvSpPr>
              <p:spPr>
                <a:xfrm>
                  <a:off x="5735880" y="5295240"/>
                  <a:ext cx="146160" cy="608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4" name="Line 24"/>
                <p:cNvSpPr/>
                <p:nvPr/>
              </p:nvSpPr>
              <p:spPr>
                <a:xfrm flipH="1">
                  <a:off x="5635080" y="529524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5" name="Line 25"/>
                <p:cNvSpPr/>
                <p:nvPr/>
              </p:nvSpPr>
              <p:spPr>
                <a:xfrm flipH="1">
                  <a:off x="5636880" y="590220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Line 26"/>
                <p:cNvSpPr/>
                <p:nvPr/>
              </p:nvSpPr>
              <p:spPr>
                <a:xfrm flipV="1">
                  <a:off x="5636880" y="5294880"/>
                  <a:ext cx="0" cy="600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7" name="AutoShape 27"/>
              <p:cNvSpPr/>
              <p:nvPr/>
            </p:nvSpPr>
            <p:spPr>
              <a:xfrm rot="2933400">
                <a:off x="6495840" y="5342040"/>
                <a:ext cx="88560" cy="579240"/>
              </a:xfrm>
              <a:prstGeom prst="flowChartAlternate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8" name="Line 28"/>
              <p:cNvSpPr/>
              <p:nvPr/>
            </p:nvSpPr>
            <p:spPr>
              <a:xfrm>
                <a:off x="5897160" y="5593680"/>
                <a:ext cx="61560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9" name="Line 29"/>
              <p:cNvSpPr/>
              <p:nvPr/>
            </p:nvSpPr>
            <p:spPr>
              <a:xfrm flipV="1">
                <a:off x="6506640" y="5001480"/>
                <a:ext cx="0" cy="5983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0" name="Line 30"/>
              <p:cNvSpPr/>
              <p:nvPr/>
            </p:nvSpPr>
            <p:spPr>
              <a:xfrm flipH="1">
                <a:off x="6668280" y="4544280"/>
                <a:ext cx="6120" cy="57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1" name="Group 31"/>
              <p:cNvGrpSpPr/>
              <p:nvPr/>
            </p:nvGrpSpPr>
            <p:grpSpPr>
              <a:xfrm>
                <a:off x="6284520" y="4629960"/>
                <a:ext cx="766440" cy="375840"/>
                <a:chOff x="6284520" y="4629960"/>
                <a:chExt cx="766440" cy="375840"/>
              </a:xfrm>
            </p:grpSpPr>
            <p:sp>
              <p:nvSpPr>
                <p:cNvPr id="702" name="Oval 32"/>
                <p:cNvSpPr/>
                <p:nvPr/>
              </p:nvSpPr>
              <p:spPr>
                <a:xfrm>
                  <a:off x="6284520" y="4773240"/>
                  <a:ext cx="761400" cy="232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3" name="Oval 33"/>
                <p:cNvSpPr/>
                <p:nvPr/>
              </p:nvSpPr>
              <p:spPr>
                <a:xfrm>
                  <a:off x="6288840" y="4729680"/>
                  <a:ext cx="761760" cy="23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4" name="Line 34"/>
                <p:cNvSpPr/>
                <p:nvPr/>
              </p:nvSpPr>
              <p:spPr>
                <a:xfrm>
                  <a:off x="6288840" y="4746600"/>
                  <a:ext cx="0" cy="15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5" name="Line 35"/>
                <p:cNvSpPr/>
                <p:nvPr/>
              </p:nvSpPr>
              <p:spPr>
                <a:xfrm>
                  <a:off x="7050960" y="4742280"/>
                  <a:ext cx="0" cy="15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6" name="Oval 36"/>
                <p:cNvSpPr/>
                <p:nvPr/>
              </p:nvSpPr>
              <p:spPr>
                <a:xfrm>
                  <a:off x="6288840" y="4675680"/>
                  <a:ext cx="76176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7" name="Oval 37"/>
                <p:cNvSpPr/>
                <p:nvPr/>
              </p:nvSpPr>
              <p:spPr>
                <a:xfrm>
                  <a:off x="6288840" y="4629960"/>
                  <a:ext cx="761760" cy="232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08" name="Line 38"/>
              <p:cNvSpPr/>
              <p:nvPr/>
            </p:nvSpPr>
            <p:spPr>
              <a:xfrm>
                <a:off x="6675120" y="46238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AutoShape 39"/>
              <p:cNvSpPr/>
              <p:nvPr/>
            </p:nvSpPr>
            <p:spPr>
              <a:xfrm flipV="1">
                <a:off x="6544800" y="4710960"/>
                <a:ext cx="258480" cy="79200"/>
              </a:xfrm>
              <a:custGeom>
                <a:avLst/>
                <a:gdLst>
                  <a:gd name="textAreaLeft" fmla="*/ 37800 w 258480"/>
                  <a:gd name="textAreaRight" fmla="*/ 220680 w 258480"/>
                  <a:gd name="textAreaTop" fmla="*/ 10800 h 79200"/>
                  <a:gd name="textAreaBottom" fmla="*/ 68400 h 7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068" y="19704"/>
                    </a:moveTo>
                    <a:cubicBezTo>
                      <a:pt x="19216" y="17842"/>
                      <a:pt x="21147" y="14457"/>
                      <a:pt x="21147" y="10800"/>
                    </a:cubicBezTo>
                    <a:cubicBezTo>
                      <a:pt x="21147" y="5085"/>
                      <a:pt x="16514" y="453"/>
                      <a:pt x="10800" y="453"/>
                    </a:cubicBezTo>
                    <a:cubicBezTo>
                      <a:pt x="5085" y="453"/>
                      <a:pt x="453" y="5085"/>
                      <a:pt x="453" y="10800"/>
                    </a:cubicBezTo>
                    <a:cubicBezTo>
                      <a:pt x="452" y="14769"/>
                      <a:pt x="2723" y="18388"/>
                      <a:pt x="6297" y="20116"/>
                    </a:cubicBezTo>
                    <a:lnTo>
                      <a:pt x="6100" y="20524"/>
                    </a:lnTo>
                    <a:cubicBezTo>
                      <a:pt x="2370" y="18721"/>
                      <a:pt x="0" y="14943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599" y="14617"/>
                      <a:pt x="19584" y="18150"/>
                      <a:pt x="16299" y="20094"/>
                    </a:cubicBezTo>
                    <a:lnTo>
                      <a:pt x="17674" y="22418"/>
                    </a:lnTo>
                    <a:lnTo>
                      <a:pt x="13665" y="21390"/>
                    </a:lnTo>
                    <a:lnTo>
                      <a:pt x="14694" y="17381"/>
                    </a:lnTo>
                    <a:lnTo>
                      <a:pt x="16068" y="197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Line 40"/>
              <p:cNvSpPr/>
              <p:nvPr/>
            </p:nvSpPr>
            <p:spPr>
              <a:xfrm>
                <a:off x="5908320" y="4604760"/>
                <a:ext cx="40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AutoShape 41"/>
              <p:cNvSpPr/>
              <p:nvPr/>
            </p:nvSpPr>
            <p:spPr>
              <a:xfrm flipH="1" flipV="1">
                <a:off x="6247800" y="4160520"/>
                <a:ext cx="520560" cy="561600"/>
              </a:xfrm>
              <a:prstGeom prst="triangle">
                <a:avLst>
                  <a:gd name="adj" fmla="val 50000"/>
                </a:avLst>
              </a:prstGeom>
              <a:solidFill>
                <a:srgbClr val="00b000"/>
              </a:solidFill>
              <a:ln w="12600">
                <a:solidFill>
                  <a:srgbClr val="00b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Text Box 42"/>
              <p:cNvSpPr/>
              <p:nvPr/>
            </p:nvSpPr>
            <p:spPr>
              <a:xfrm>
                <a:off x="4968360" y="4453920"/>
                <a:ext cx="97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olarizer</a:t>
                </a:r>
                <a:endParaRPr b="1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Line 43"/>
              <p:cNvSpPr/>
              <p:nvPr/>
            </p:nvSpPr>
            <p:spPr>
              <a:xfrm flipV="1">
                <a:off x="6509880" y="4190400"/>
                <a:ext cx="0" cy="539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Line 44"/>
              <p:cNvSpPr/>
              <p:nvPr/>
            </p:nvSpPr>
            <p:spPr>
              <a:xfrm>
                <a:off x="6386040" y="4604760"/>
                <a:ext cx="25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15" name="Group 45"/>
              <p:cNvGrpSpPr/>
              <p:nvPr/>
            </p:nvGrpSpPr>
            <p:grpSpPr>
              <a:xfrm>
                <a:off x="4960800" y="4990320"/>
                <a:ext cx="1702800" cy="337320"/>
                <a:chOff x="4960800" y="4990320"/>
                <a:chExt cx="1702800" cy="337320"/>
              </a:xfrm>
            </p:grpSpPr>
            <p:sp>
              <p:nvSpPr>
                <p:cNvPr id="716" name="Text Box 46"/>
                <p:cNvSpPr/>
                <p:nvPr/>
              </p:nvSpPr>
              <p:spPr>
                <a:xfrm>
                  <a:off x="4960800" y="499032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in hole</a:t>
                  </a:r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Line 47"/>
                <p:cNvSpPr/>
                <p:nvPr/>
              </p:nvSpPr>
              <p:spPr>
                <a:xfrm>
                  <a:off x="5881680" y="5158440"/>
                  <a:ext cx="39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18" name="Group 48"/>
                <p:cNvGrpSpPr/>
                <p:nvPr/>
              </p:nvGrpSpPr>
              <p:grpSpPr>
                <a:xfrm>
                  <a:off x="6354360" y="5158440"/>
                  <a:ext cx="309240" cy="0"/>
                  <a:chOff x="6354360" y="5158440"/>
                  <a:chExt cx="309240" cy="0"/>
                </a:xfrm>
              </p:grpSpPr>
              <p:sp>
                <p:nvSpPr>
                  <p:cNvPr id="719" name="Line 49"/>
                  <p:cNvSpPr/>
                  <p:nvPr/>
                </p:nvSpPr>
                <p:spPr>
                  <a:xfrm>
                    <a:off x="6540120" y="5158440"/>
                    <a:ext cx="123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0" name="Line 50"/>
                  <p:cNvSpPr/>
                  <p:nvPr/>
                </p:nvSpPr>
                <p:spPr>
                  <a:xfrm>
                    <a:off x="6354360" y="5158440"/>
                    <a:ext cx="123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721" name="Group 51"/>
            <p:cNvGrpSpPr/>
            <p:nvPr/>
          </p:nvGrpSpPr>
          <p:grpSpPr>
            <a:xfrm>
              <a:off x="4873680" y="1189080"/>
              <a:ext cx="3980520" cy="3011760"/>
              <a:chOff x="4873680" y="1189080"/>
              <a:chExt cx="3980520" cy="3011760"/>
            </a:xfrm>
          </p:grpSpPr>
          <p:sp>
            <p:nvSpPr>
              <p:cNvPr id="722" name="Text Box 52"/>
              <p:cNvSpPr/>
              <p:nvPr/>
            </p:nvSpPr>
            <p:spPr>
              <a:xfrm>
                <a:off x="7335360" y="2622240"/>
                <a:ext cx="1518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etection lens</a:t>
                </a:r>
                <a:endParaRPr b="1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23" name="Group 53"/>
              <p:cNvGrpSpPr/>
              <p:nvPr/>
            </p:nvGrpSpPr>
            <p:grpSpPr>
              <a:xfrm>
                <a:off x="4873680" y="1477800"/>
                <a:ext cx="3112560" cy="2723040"/>
                <a:chOff x="4873680" y="1477800"/>
                <a:chExt cx="3112560" cy="2723040"/>
              </a:xfrm>
            </p:grpSpPr>
            <p:sp>
              <p:nvSpPr>
                <p:cNvPr id="724" name="Line 54"/>
                <p:cNvSpPr/>
                <p:nvPr/>
              </p:nvSpPr>
              <p:spPr>
                <a:xfrm>
                  <a:off x="6924240" y="2349000"/>
                  <a:ext cx="106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Line 55"/>
                <p:cNvSpPr/>
                <p:nvPr/>
              </p:nvSpPr>
              <p:spPr>
                <a:xfrm>
                  <a:off x="6922800" y="3279240"/>
                  <a:ext cx="1059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Line 56"/>
                <p:cNvSpPr/>
                <p:nvPr/>
              </p:nvSpPr>
              <p:spPr>
                <a:xfrm flipV="1">
                  <a:off x="7986240" y="2919960"/>
                  <a:ext cx="0" cy="34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7" name="Line 57"/>
                <p:cNvSpPr/>
                <p:nvPr/>
              </p:nvSpPr>
              <p:spPr>
                <a:xfrm flipV="1">
                  <a:off x="7986240" y="2343600"/>
                  <a:ext cx="0" cy="30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8" name="Text Box 58"/>
                <p:cNvSpPr/>
                <p:nvPr/>
              </p:nvSpPr>
              <p:spPr>
                <a:xfrm>
                  <a:off x="4873680" y="1477800"/>
                  <a:ext cx="1317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2-bit</a:t>
                  </a:r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CD camera</a:t>
                  </a:r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Rectangle 59"/>
                <p:cNvSpPr/>
                <p:nvPr/>
              </p:nvSpPr>
              <p:spPr>
                <a:xfrm>
                  <a:off x="6237000" y="3355200"/>
                  <a:ext cx="550440" cy="596520"/>
                </a:xfrm>
                <a:prstGeom prst="rect">
                  <a:avLst/>
                </a:prstGeom>
                <a:solidFill>
                  <a:srgbClr val="00b000"/>
                </a:solidFill>
                <a:ln w="9360">
                  <a:solidFill>
                    <a:srgbClr val="00b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Text Box 60"/>
                <p:cNvSpPr/>
                <p:nvPr/>
              </p:nvSpPr>
              <p:spPr>
                <a:xfrm>
                  <a:off x="4971600" y="3515760"/>
                  <a:ext cx="1063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eam stop</a:t>
                  </a:r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1" name="Text Box 61"/>
                <p:cNvSpPr/>
                <p:nvPr/>
              </p:nvSpPr>
              <p:spPr>
                <a:xfrm>
                  <a:off x="4974840" y="2434680"/>
                  <a:ext cx="934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in hole</a:t>
                  </a:r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2" name="AutoShape 62"/>
                <p:cNvSpPr/>
                <p:nvPr/>
              </p:nvSpPr>
              <p:spPr>
                <a:xfrm flipH="1">
                  <a:off x="6245640" y="2590200"/>
                  <a:ext cx="520200" cy="563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00"/>
                </a:solidFill>
                <a:ln w="12600">
                  <a:solidFill>
                    <a:srgbClr val="00b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33" name="Group 63"/>
                <p:cNvGrpSpPr/>
                <p:nvPr/>
              </p:nvGrpSpPr>
              <p:grpSpPr>
                <a:xfrm>
                  <a:off x="6349680" y="2574360"/>
                  <a:ext cx="308520" cy="0"/>
                  <a:chOff x="6349680" y="2574360"/>
                  <a:chExt cx="308520" cy="0"/>
                </a:xfrm>
              </p:grpSpPr>
              <p:sp>
                <p:nvSpPr>
                  <p:cNvPr id="734" name="Line 64"/>
                  <p:cNvSpPr/>
                  <p:nvPr/>
                </p:nvSpPr>
                <p:spPr>
                  <a:xfrm>
                    <a:off x="6535080" y="2574360"/>
                    <a:ext cx="123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5" name="Line 65"/>
                  <p:cNvSpPr/>
                  <p:nvPr/>
                </p:nvSpPr>
                <p:spPr>
                  <a:xfrm>
                    <a:off x="6349680" y="2574360"/>
                    <a:ext cx="123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736" name="Line 66"/>
                <p:cNvSpPr/>
                <p:nvPr/>
              </p:nvSpPr>
              <p:spPr>
                <a:xfrm flipV="1">
                  <a:off x="6506640" y="3639600"/>
                  <a:ext cx="0" cy="31392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Line 67"/>
                <p:cNvSpPr/>
                <p:nvPr/>
              </p:nvSpPr>
              <p:spPr>
                <a:xfrm>
                  <a:off x="6463800" y="3645720"/>
                  <a:ext cx="87120" cy="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38" name="Group 68"/>
                <p:cNvGrpSpPr/>
                <p:nvPr/>
              </p:nvGrpSpPr>
              <p:grpSpPr>
                <a:xfrm>
                  <a:off x="6196680" y="3110760"/>
                  <a:ext cx="607320" cy="246960"/>
                  <a:chOff x="6196680" y="3110760"/>
                  <a:chExt cx="607320" cy="246960"/>
                </a:xfrm>
              </p:grpSpPr>
              <p:sp>
                <p:nvSpPr>
                  <p:cNvPr id="739" name="Oval 69"/>
                  <p:cNvSpPr/>
                  <p:nvPr/>
                </p:nvSpPr>
                <p:spPr>
                  <a:xfrm flipV="1" rot="16200000">
                    <a:off x="6427080" y="2880000"/>
                    <a:ext cx="146160" cy="607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0" name="Line 70"/>
                  <p:cNvSpPr/>
                  <p:nvPr/>
                </p:nvSpPr>
                <p:spPr>
                  <a:xfrm>
                    <a:off x="6802200" y="3174120"/>
                    <a:ext cx="0" cy="18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1" name="Line 71"/>
                  <p:cNvSpPr/>
                  <p:nvPr/>
                </p:nvSpPr>
                <p:spPr>
                  <a:xfrm>
                    <a:off x="6197040" y="3174120"/>
                    <a:ext cx="0" cy="18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2" name="Line 72"/>
                  <p:cNvSpPr/>
                  <p:nvPr/>
                </p:nvSpPr>
                <p:spPr>
                  <a:xfrm>
                    <a:off x="6203520" y="3355560"/>
                    <a:ext cx="598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743" name="Line 73"/>
                <p:cNvSpPr/>
                <p:nvPr/>
              </p:nvSpPr>
              <p:spPr>
                <a:xfrm>
                  <a:off x="6040080" y="3647520"/>
                  <a:ext cx="404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44" name="Group 74"/>
                <p:cNvGrpSpPr/>
                <p:nvPr/>
              </p:nvGrpSpPr>
              <p:grpSpPr>
                <a:xfrm>
                  <a:off x="6203160" y="3953880"/>
                  <a:ext cx="607320" cy="246960"/>
                  <a:chOff x="6203160" y="3953880"/>
                  <a:chExt cx="607320" cy="246960"/>
                </a:xfrm>
              </p:grpSpPr>
              <p:sp>
                <p:nvSpPr>
                  <p:cNvPr id="745" name="Oval 75"/>
                  <p:cNvSpPr/>
                  <p:nvPr/>
                </p:nvSpPr>
                <p:spPr>
                  <a:xfrm rot="5400000">
                    <a:off x="6433560" y="3823920"/>
                    <a:ext cx="146160" cy="607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6" name="Line 76"/>
                  <p:cNvSpPr/>
                  <p:nvPr/>
                </p:nvSpPr>
                <p:spPr>
                  <a:xfrm flipV="1">
                    <a:off x="6808680" y="3953880"/>
                    <a:ext cx="0" cy="18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7" name="Line 77"/>
                  <p:cNvSpPr/>
                  <p:nvPr/>
                </p:nvSpPr>
                <p:spPr>
                  <a:xfrm flipV="1">
                    <a:off x="6203520" y="3953880"/>
                    <a:ext cx="0" cy="18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8" name="Line 78"/>
                  <p:cNvSpPr/>
                  <p:nvPr/>
                </p:nvSpPr>
                <p:spPr>
                  <a:xfrm>
                    <a:off x="6210000" y="3956040"/>
                    <a:ext cx="598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749" name="Line 79"/>
                <p:cNvSpPr/>
                <p:nvPr/>
              </p:nvSpPr>
              <p:spPr>
                <a:xfrm>
                  <a:off x="5866920" y="2574360"/>
                  <a:ext cx="39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0" name="Rectangle 80"/>
                <p:cNvSpPr/>
                <p:nvPr/>
              </p:nvSpPr>
              <p:spPr>
                <a:xfrm>
                  <a:off x="6406560" y="2080440"/>
                  <a:ext cx="183960" cy="209160"/>
                </a:xfrm>
                <a:prstGeom prst="rect">
                  <a:avLst/>
                </a:prstGeom>
                <a:solidFill>
                  <a:srgbClr val="00b000"/>
                </a:solidFill>
                <a:ln w="9360">
                  <a:solidFill>
                    <a:srgbClr val="00b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1" name="AutoShape 81"/>
                <p:cNvSpPr/>
                <p:nvPr/>
              </p:nvSpPr>
              <p:spPr>
                <a:xfrm flipH="1" flipV="1">
                  <a:off x="6422760" y="2381400"/>
                  <a:ext cx="167760" cy="178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00"/>
                </a:solidFill>
                <a:ln w="12600">
                  <a:solidFill>
                    <a:srgbClr val="00b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52" name="Group 82"/>
                <p:cNvGrpSpPr/>
                <p:nvPr/>
              </p:nvGrpSpPr>
              <p:grpSpPr>
                <a:xfrm>
                  <a:off x="6385680" y="2292840"/>
                  <a:ext cx="237960" cy="96840"/>
                  <a:chOff x="6385680" y="2292840"/>
                  <a:chExt cx="237960" cy="96840"/>
                </a:xfrm>
              </p:grpSpPr>
              <p:sp>
                <p:nvSpPr>
                  <p:cNvPr id="753" name="Oval 83"/>
                  <p:cNvSpPr/>
                  <p:nvPr/>
                </p:nvSpPr>
                <p:spPr>
                  <a:xfrm rot="5400000">
                    <a:off x="6476040" y="2242080"/>
                    <a:ext cx="5724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4" name="Line 84"/>
                  <p:cNvSpPr/>
                  <p:nvPr/>
                </p:nvSpPr>
                <p:spPr>
                  <a:xfrm flipV="1">
                    <a:off x="6623640" y="2292840"/>
                    <a:ext cx="0" cy="7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5" name="Line 85"/>
                  <p:cNvSpPr/>
                  <p:nvPr/>
                </p:nvSpPr>
                <p:spPr>
                  <a:xfrm flipV="1">
                    <a:off x="6392160" y="2294280"/>
                    <a:ext cx="0" cy="7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6" name="Line 86"/>
                  <p:cNvSpPr/>
                  <p:nvPr/>
                </p:nvSpPr>
                <p:spPr>
                  <a:xfrm>
                    <a:off x="6390720" y="2294640"/>
                    <a:ext cx="230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757" name="Line 87"/>
                <p:cNvSpPr/>
                <p:nvPr/>
              </p:nvSpPr>
              <p:spPr>
                <a:xfrm flipH="1" flipV="1">
                  <a:off x="6503400" y="2052000"/>
                  <a:ext cx="9360" cy="1164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8" name="AutoShape 88"/>
                <p:cNvSpPr/>
                <p:nvPr/>
              </p:nvSpPr>
              <p:spPr>
                <a:xfrm>
                  <a:off x="6365520" y="1893240"/>
                  <a:ext cx="271080" cy="294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59" name="Rectangle 89"/>
              <p:cNvSpPr/>
              <p:nvPr/>
            </p:nvSpPr>
            <p:spPr>
              <a:xfrm>
                <a:off x="6186240" y="1189080"/>
                <a:ext cx="623520" cy="864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60" name="Text Box 91"/>
            <p:cNvSpPr/>
            <p:nvPr/>
          </p:nvSpPr>
          <p:spPr>
            <a:xfrm>
              <a:off x="7256520" y="4516200"/>
              <a:ext cx="174744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nkam shearing hotstag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γ’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&lt; 60 s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gap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61" name="Text Box 185"/>
          <p:cNvSpPr/>
          <p:nvPr/>
        </p:nvSpPr>
        <p:spPr>
          <a:xfrm>
            <a:off x="3189240" y="16146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 = 4.00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.29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2" name="Picture 193" descr=""/>
          <p:cNvPicPr/>
          <p:nvPr/>
        </p:nvPicPr>
        <p:blipFill>
          <a:blip r:embed="rId1"/>
          <a:stretch/>
        </p:blipFill>
        <p:spPr>
          <a:xfrm>
            <a:off x="560520" y="1100160"/>
            <a:ext cx="4178160" cy="356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7:31:04Z</dcterms:created>
  <dc:creator>calbus</dc:creator>
  <dc:description/>
  <dc:language>en-US</dc:language>
  <cp:lastModifiedBy>Gregory</cp:lastModifiedBy>
  <dcterms:modified xsi:type="dcterms:W3CDTF">2012-02-06T15:17:12Z</dcterms:modified>
  <cp:revision>491</cp:revision>
  <dc:subject/>
  <dc:title>Division of Industrial Innovation  and Partnerships  (IIP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ocument Type">
    <vt:lpwstr>Presentations</vt:lpwstr>
  </property>
  <property fmtid="{D5CDD505-2E9C-101B-9397-08002B2CF9AE}" pid="4" name="Document contents">
    <vt:lpwstr/>
  </property>
  <property fmtid="{D5CDD505-2E9C-101B-9397-08002B2CF9AE}" pid="5" name="Team">
    <vt:lpwstr>;#General IIP;#</vt:lpwstr>
  </property>
</Properties>
</file>