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4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4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805E9F-609D-40C2-9F71-EE5E9A4F4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B13CED-391A-4127-B24A-2B7DF87CAF61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AEF-5100-41E4-9295-16DB1596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42F-B543-4F73-A57B-5F22E85E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C5597-E836-4AB4-8D7C-64475E9E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6AC3-7D40-4696-B9D5-6785D50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01E6-6BE0-4FAF-80E0-07B1964B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D817-AD79-4D76-B154-FB5EFA6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7E283-7307-42E7-A12F-780E26C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F7741-A865-47D6-9017-519E0C4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7AEB1-CB8B-47B9-B1C4-9A0565C1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22B07-5665-48BE-83FA-4AEFE5A2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AB5B-6273-4923-98BF-15A52D4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B8385-C1DB-4E95-9C16-50B3E21B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707-537A-4B3C-A6BA-A5789B81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01872-D933-4387-8B49-4E22081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95D69-5F4A-470E-AACD-513B6675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3531B-935C-4C21-B96F-10D19FA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2B0FC-36E6-4B9C-BC23-A41A4E3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9F69A-7421-4EE8-95A6-1AF552F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6A5F4-1678-4937-980D-74F7FAD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F5799-E696-4231-93AC-EEBA2381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3D036-F0A9-4E62-B72D-663B7ED9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3AB13-DF40-49FB-A4B4-79F60008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3CFD0-669F-4A16-A73A-C1025D98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245-B3A6-4A3A-A861-ABBACB28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11637-B8A0-4FB8-899B-4EC90A56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9F12A-D210-47F1-99AA-F841DE63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8270-C8A5-42C7-9EA3-69172D9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1E506-EBEE-4DB3-976B-E363140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92C7B-372D-4A29-A407-F2E7BD1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E1646-D754-45F3-AB0A-30615282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2EF99-022A-443E-8F2E-7AD74B3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B2D72-938C-44F5-937A-042EDE8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984B3-6754-4CEE-9739-9DEFB80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B9155-9CFE-4A51-AB69-4222E64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4D24-9D75-46CD-8C8C-219A95B9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A0326-E95E-4163-AD75-EFBF611E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AFA75-845B-4965-A6BE-F2D8654A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40CA6-A70E-4CDB-822F-EA3CD127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93BA-10B2-4379-8472-C038E704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BFDB-DA9B-4634-B5C7-CD3A2CA3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BF76-F2A7-41E2-950D-C805EA95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558F-1C4A-41FF-844D-102D432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F1EE-AA9B-4584-9194-E8926B3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655DE-FCB6-41E6-9BF6-694CC4F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008E9-1989-4A56-B21D-1E6F935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32AD-126F-4841-9953-2C3906A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A526C-9968-4A23-82B2-67FC0ED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70EDD-EFFD-43E3-A495-F5A61DA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46DA4-A8F5-44C3-8191-182B884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AFE0-A7CD-4352-AEC6-EF859084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2965C-3AC6-43C1-ACFB-BA7B11A4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7B67-21CB-4456-8AF9-343676B5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463D4-7C7A-445F-8836-7078E41B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119CC-2FEC-4654-81F5-2C0C627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FA645-64F7-4573-B92C-B3338A68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1671C-E9BD-41FA-A34D-9FC01354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717-2A3D-45E7-8887-5E54BD8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CCA3E-9819-4804-AFA7-3241539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FE946-091F-4A86-B60B-07C4DC3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59500-6832-43AB-8FD1-0734CAC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0C178-9F1D-4419-B9A7-1A4B1852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B4D2A-BC79-43E6-BB6A-98A5CD0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1EA1B-C5E6-4C36-9974-F23F3213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5A27A-1750-489A-8BF4-74B26537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DA495-CAD9-455A-BDC6-299A6CB5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BDC45-8CC9-4272-BD19-D2373D9C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65DB2-AE00-4CA6-83F7-605D2D5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39E6-3694-444F-B1C6-F8FFF5D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47ABA-9206-43DC-A1F6-92F72BD6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E3C13-90C9-4F07-A6EC-4CE158A7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860FA-3B68-48B7-9CEA-4E5F7B4D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EA8B9-4DA0-4367-BC4C-4D07200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7B5F4-3252-4C83-BF75-057F1000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26B09-F86E-4041-876E-637E4C8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BEF80-1586-458B-BC10-832766C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DEA5C-B2BF-40A9-B995-D430B146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9F511-E1F6-404A-884E-167A434B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5FB91-850F-4B61-9FE6-FBABE859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4863-DF35-47CA-A7A8-9493BAE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D2F48-5FBE-42B8-A142-28218C2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3EAF3-4CEF-4E28-8666-34E8859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4F0DF-37EF-4EE9-B936-3A9970D3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A5903-7E39-4EB7-BAD0-80954F96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7F588-130C-47A8-9213-65E2E79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508DF-9046-4CAF-A31A-4EBF2B3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E85F8-DF6F-43DA-8918-2E7941E9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151E5-BA2F-490F-B92C-8F8ACB1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8FAB1-094C-4932-B528-AA07FB48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E2133-4A48-4580-98FF-4DA76CBC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64C-79B2-4970-9521-CE280BF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24AEF-990D-4919-B381-A068616F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82E01-F5FA-4198-83D3-DB3FFA90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A683D-272B-4B13-A4A3-83ECDA9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291BD-2CDA-40A2-9B54-499BCF2A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BCE95-6A2D-40B2-B851-3389773D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EEA0A-F370-4223-9F14-E39B3647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63DB0-BD4C-494A-A006-AEF08A93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65FB5-1068-4472-91DA-0A3A7CD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1FA24-D867-44A3-97D9-1986A30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3F939-575D-484F-9EB0-F039C3F8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8952-FBDA-4A9D-9268-0FDC125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7C932-0363-4F64-B571-C875581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74BBD-14CA-4A5E-B3A1-B33DD111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385BD-0AC8-4B4F-8BCF-0F1F98A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15D-C4FF-4F80-AEC6-5D7A0E2E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769D-AB99-4316-AA69-0F96536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FDF8-A787-41A1-9C93-5111341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044D-F6EA-4A11-B078-A0AAC62F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75D-9855-43F1-AC5B-0C68B045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A0F9-5CDD-4B08-9062-1A14CD7D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F781-E6A4-474C-BFEC-D27BBE33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BF4BF-C0E3-423D-9DF1-D31BF8F5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5719-1206-426F-B9F8-02E9E7C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2D32-F35D-45BB-A7EE-68073C7C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49B4-B1F9-4CE8-897E-F7C65B6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673-EB1A-44AC-AEA6-5D0DF795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5CE9-60FC-49F1-B801-C9190FF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C771-5215-4A3D-A65A-5AFD82E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907F-F2C2-4315-8BF1-63BF2F8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93D9-CF39-4456-AD93-9D79D40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D151-E550-4595-A060-0A362C6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88F3-BC32-4F27-A8E2-2D631728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B51A-C696-4CEB-A20F-90E22D17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435-481C-448F-98F1-4AADF9C9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9BE7-4466-451D-84F2-91D3718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5C8-12F7-41D9-9868-5E4EBD9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A64F-64BF-40A3-976B-28DB592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16BA-C34F-4D69-8123-400A5D6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BBDA-236E-4A3B-82B1-852E6FCA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7D01-47AC-45D8-9011-667AA337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25B0-AF54-4C2E-B208-4B84EE9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7FCF4-7490-47DF-9C9D-98DBEFCC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7A3B-14AA-4551-83A4-10AED88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9BAA-D086-43DB-8381-F46425CF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283AF-46BC-419E-86E8-5D6D69B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D7DB-8A1E-4E70-A55A-04AACAC2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1EF-6F6C-4299-BEED-43A82197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B54D-978A-4FDD-B4C3-DEE0C300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B081-B954-4A3A-94C8-52968396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58FA2-0457-421B-B6FD-28FCE32F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39540-1ECF-4F7A-B138-828F7135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040C-66FC-481B-ADF9-A0F47EE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668A-A0C7-4C9B-A934-C6D81EAB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BC38D-2CD4-4730-81F2-765F3D39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5D81-898F-480E-B96E-4D6822E2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3EEE2-CE94-48C5-AF81-5CB63D66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353A-E0D7-4C34-A688-F6599EF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2C9-B7EC-4D99-9E0F-900D5AF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93E5-243D-45DE-99BF-76ED366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5FF4-53CE-4531-8EDC-88B432BE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8BE9-CEC2-4F03-85DC-C3C88596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222D-2AF8-4273-AA1F-D23897DC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27174-3F89-48BA-9232-CEEF17D9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CC84-DA28-4BFC-9274-0B525E97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591D-CC59-493B-B2B2-731E627F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5190-A19D-4760-98A6-9DB5FE3B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995D-F399-472C-8AF9-1DBC4DD7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AC6D5-B3A5-42F2-8EA1-61DEDBC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319-8BC4-49CA-AD1F-024FC13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66E9-75F5-4E6F-A22B-F357AA9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116B7-8A82-4E0E-90C9-B34C89B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4811-115E-49A8-9065-95DD3DA2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01A63-71AB-4FD5-AA3F-D684C46B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15E67-A7D6-482F-AB47-806D5A95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C057E-DAB5-44F5-839F-053AAD49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F07EE-AA14-42C4-B2FC-E8EFF46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6330-740D-4D65-B370-6BE58966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2DE3-36BA-434E-918C-747FEEF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6471C-777C-49DA-869C-7FBD5F06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35E-2128-4EB9-92CA-323CA6E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EEAD-6359-4BBA-AD7D-65BD9178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10768-2C35-4A84-8E08-C5833E1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982F5-8C32-44BE-8D25-A3CBF11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DC50-52E6-48B4-9564-2E677EA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3759E-FFAF-4474-8319-8E37B7CF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FFD6-39A7-4EEC-BD88-ADFABD39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C462-C2CA-416D-8B3E-F9A66F66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65A7-2787-46EE-AAFC-A340F0D6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90C4-3D9B-49A0-8D1A-4587721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AE9F-4B49-43DE-943D-51884EA4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vation through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787-4213-4DB5-ACC4-42AAEF815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blue NSF Logo"/>
          <p:cNvPicPr/>
          <p:nvPr/>
        </p:nvPicPr>
        <p:blipFill>
          <a:blip r:embed="rId2"/>
          <a:srcRect l="5926" t="0" r="0" b="6486"/>
          <a:stretch/>
        </p:blipFill>
        <p:spPr>
          <a:xfrm>
            <a:off x="0" y="5985000"/>
            <a:ext cx="905040" cy="826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2"/>
          <p:cNvSpPr/>
          <p:nvPr/>
        </p:nvSpPr>
        <p:spPr>
          <a:xfrm rot="10800000">
            <a:off x="3240" y="-16200"/>
            <a:ext cx="914400" cy="5941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D538-C833-4249-AD5E-C7DD022EFDA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FD8D-EAE4-4188-8968-8D2694C85DD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DBFB-8AB7-4943-99DF-82409413FEE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DE9-E7E8-4EE5-9736-1E51F247815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E70-07AC-4AB4-BEF7-BF672D0EAEB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2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FDE-2489-491B-A6F9-148E53162623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631-ED7E-4F46-8E86-05363B96BB7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2554-866C-4A1B-87AF-E16B41BD7C4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1" descr="blue NSF Logo"/>
          <p:cNvPicPr/>
          <p:nvPr/>
        </p:nvPicPr>
        <p:blipFill>
          <a:blip r:embed="rId2"/>
          <a:srcRect l="5926" t="0" r="0" b="6486"/>
          <a:stretch/>
        </p:blipFill>
        <p:spPr>
          <a:xfrm>
            <a:off x="0" y="5985000"/>
            <a:ext cx="905040" cy="826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2"/>
          <p:cNvSpPr/>
          <p:nvPr/>
        </p:nvSpPr>
        <p:spPr>
          <a:xfrm rot="10800000">
            <a:off x="3240" y="-16200"/>
            <a:ext cx="914400" cy="5941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9"/>
          <p:cNvSpPr/>
          <p:nvPr/>
        </p:nvSpPr>
        <p:spPr>
          <a:xfrm rot="10800000">
            <a:off x="3240" y="0"/>
            <a:ext cx="9144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vation through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66C5-E8FA-4416-835A-4937DAE71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1" descr="blue NSF Logo"/>
          <p:cNvPicPr/>
          <p:nvPr/>
        </p:nvPicPr>
        <p:blipFill>
          <a:blip r:embed="rId2"/>
          <a:srcRect l="5926" t="0" r="0" b="6486"/>
          <a:stretch/>
        </p:blipFill>
        <p:spPr>
          <a:xfrm>
            <a:off x="0" y="5985000"/>
            <a:ext cx="905040" cy="826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 rot="10800000">
            <a:off x="3240" y="-16200"/>
            <a:ext cx="914400" cy="5941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726-6EDE-4C63-8FDB-78556A80EF6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1976-73DF-4424-97D7-B6D284B07EA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DD48-BA42-4638-BE30-FAA6F804DE3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C860-0DDE-4791-A12F-AB1321C1A6E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2BAA-128A-4FF2-8AF8-2AF6B1C723A9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65160" y="585360"/>
            <a:ext cx="8153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ject 4: Gel Structure, Molecular Aggregation/Agglomeration and Gelation in Colloidal Flui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65160" y="2463480"/>
            <a:ext cx="815328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’s: Mike Solom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Greg Beaucag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ick Lai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Steve Clar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: Greg Smit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on Jone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Univ. Michigan; 2 Univ. Cincinnati; 3 Oak Ridge National Lab; 4 National Institute of Standards and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d Budget:  $150,000/year; In Kind Support Oak Ridge National Lab $40,000/year, National Institute of Standards an Technology $40,000/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uration: 3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Picture 5" descr="TIFF_CMT_LOGO.tif"/>
          <p:cNvPicPr/>
          <p:nvPr/>
        </p:nvPicPr>
        <p:blipFill>
          <a:blip r:embed="rId1"/>
          <a:stretch/>
        </p:blipFill>
        <p:spPr>
          <a:xfrm>
            <a:off x="4010040" y="5923080"/>
            <a:ext cx="1730520" cy="93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6840" y="200160"/>
            <a:ext cx="83390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Why study microstructur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1212840" y="1143000"/>
            <a:ext cx="78739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For example: structure matters for Poly(ethylene) oxide (PEO)  drag reduction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PEO will yield greater improvement per unit mass because of its aggregate structur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76320" y="6443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Photo compiled from online sourc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Picture 20" descr=""/>
          <p:cNvPicPr/>
          <p:nvPr/>
        </p:nvPicPr>
        <p:blipFill>
          <a:blip r:embed="rId1"/>
          <a:stretch/>
        </p:blipFill>
        <p:spPr>
          <a:xfrm>
            <a:off x="1212840" y="2590920"/>
            <a:ext cx="4334040" cy="17524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18"/>
          <p:cNvSpPr/>
          <p:nvPr/>
        </p:nvSpPr>
        <p:spPr>
          <a:xfrm>
            <a:off x="1050840" y="44481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  <a:ea typeface="Century Gothic"/>
              </a:rPr>
              <a:t>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  <a:ea typeface="Century Gothic"/>
              </a:rPr>
              <a:t>(Kalashnikov et al., 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  <a:ea typeface="Century Gothic"/>
              </a:rPr>
              <a:t>Inzhenerno-Fizicheskii Zhurnal 1990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  <a:ea typeface="Century Gothic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Box 26"/>
          <p:cNvSpPr/>
          <p:nvPr/>
        </p:nvSpPr>
        <p:spPr>
          <a:xfrm>
            <a:off x="2422440" y="199224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ggregate Structur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6" name="Straight Arrow Connector 28"/>
          <p:cNvCxnSpPr/>
          <p:nvPr/>
        </p:nvCxnSpPr>
        <p:spPr>
          <a:xfrm>
            <a:off x="5546520" y="3430080"/>
            <a:ext cx="49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07" name="TextBox 29"/>
          <p:cNvSpPr/>
          <p:nvPr/>
        </p:nvSpPr>
        <p:spPr>
          <a:xfrm>
            <a:off x="6168960" y="1981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Fast pipeline transpor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8" name="Picture 18" descr=""/>
          <p:cNvPicPr/>
          <p:nvPr/>
        </p:nvPicPr>
        <p:blipFill>
          <a:blip r:embed="rId2"/>
          <a:stretch/>
        </p:blipFill>
        <p:spPr>
          <a:xfrm>
            <a:off x="6114960" y="2693880"/>
            <a:ext cx="2590920" cy="164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1181160" y="277920"/>
            <a:ext cx="66294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nomalous PEO Rheology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911160" y="1506600"/>
            <a:ext cx="3975120" cy="33321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6"/>
          <p:cNvSpPr/>
          <p:nvPr/>
        </p:nvSpPr>
        <p:spPr>
          <a:xfrm>
            <a:off x="1020600" y="5537160"/>
            <a:ext cx="762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Work done in collabaration with Ron Larson, Youngsuk Heo, Bamin Khomani, Eric Shaqfeh and Radhakrishnan Sureshkuma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1181160" y="5018040"/>
            <a:ext cx="7848720" cy="580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Molecular structure of PEO not consistent with that of isolated polymer chains.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3" name="Picture 7" descr=""/>
          <p:cNvPicPr/>
          <p:nvPr/>
        </p:nvPicPr>
        <p:blipFill>
          <a:blip r:embed="rId2"/>
          <a:stretch/>
        </p:blipFill>
        <p:spPr>
          <a:xfrm>
            <a:off x="4962600" y="1590840"/>
            <a:ext cx="3840120" cy="3197160"/>
          </a:xfrm>
          <a:prstGeom prst="rect">
            <a:avLst/>
          </a:prstGeom>
          <a:ln w="0">
            <a:noFill/>
          </a:ln>
        </p:spPr>
      </p:pic>
      <p:sp>
        <p:nvSpPr>
          <p:cNvPr id="714" name="TextBox 8"/>
          <p:cNvSpPr/>
          <p:nvPr/>
        </p:nvSpPr>
        <p:spPr>
          <a:xfrm>
            <a:off x="7061040" y="31971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ignificant discrepancy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5" name="Straight Arrow Connector 9"/>
          <p:cNvCxnSpPr/>
          <p:nvPr/>
        </p:nvCxnSpPr>
        <p:spPr>
          <a:xfrm flipH="1" flipV="1">
            <a:off x="6590880" y="2912760"/>
            <a:ext cx="534240" cy="364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Straight Arrow Connector 10"/>
          <p:cNvCxnSpPr/>
          <p:nvPr/>
        </p:nvCxnSpPr>
        <p:spPr>
          <a:xfrm flipH="1">
            <a:off x="6590880" y="3618360"/>
            <a:ext cx="53424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Straight Arrow Connector 11"/>
          <p:cNvCxnSpPr/>
          <p:nvPr/>
        </p:nvCxnSpPr>
        <p:spPr>
          <a:xfrm>
            <a:off x="7810560" y="570384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84320" y="85680"/>
            <a:ext cx="809928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ExtraBlack"/>
              </a:rPr>
              <a:t>Collective dynamics by means of dynamic light scat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3" descr=""/>
          <p:cNvPicPr/>
          <p:nvPr/>
        </p:nvPicPr>
        <p:blipFill>
          <a:blip r:embed="rId1"/>
          <a:stretch/>
        </p:blipFill>
        <p:spPr>
          <a:xfrm>
            <a:off x="1062000" y="3621240"/>
            <a:ext cx="3913200" cy="206028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4"/>
          <p:cNvSpPr/>
          <p:nvPr/>
        </p:nvSpPr>
        <p:spPr>
          <a:xfrm>
            <a:off x="4736520" y="430704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q,t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904320" y="3824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6"/>
          <p:cNvSpPr/>
          <p:nvPr/>
        </p:nvSpPr>
        <p:spPr>
          <a:xfrm>
            <a:off x="2610000" y="1249200"/>
            <a:ext cx="3124080" cy="0"/>
          </a:xfrm>
          <a:prstGeom prst="line">
            <a:avLst/>
          </a:prstGeom>
          <a:ln w="76320">
            <a:solidFill>
              <a:srgbClr val="ac66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Line 7"/>
          <p:cNvSpPr/>
          <p:nvPr/>
        </p:nvSpPr>
        <p:spPr>
          <a:xfrm>
            <a:off x="3981600" y="1249200"/>
            <a:ext cx="1523880" cy="762120"/>
          </a:xfrm>
          <a:prstGeom prst="line">
            <a:avLst/>
          </a:prstGeom>
          <a:ln w="76320">
            <a:solidFill>
              <a:srgbClr val="ac66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Line 8"/>
          <p:cNvSpPr/>
          <p:nvPr/>
        </p:nvSpPr>
        <p:spPr>
          <a:xfrm flipV="1">
            <a:off x="5505480" y="1248840"/>
            <a:ext cx="2286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9"/>
          <p:cNvSpPr/>
          <p:nvPr/>
        </p:nvSpPr>
        <p:spPr>
          <a:xfrm>
            <a:off x="5165640" y="12286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AutoShape 12"/>
          <p:cNvSpPr/>
          <p:nvPr/>
        </p:nvSpPr>
        <p:spPr>
          <a:xfrm rot="17568000">
            <a:off x="5535000" y="1829520"/>
            <a:ext cx="396720" cy="455760"/>
          </a:xfrm>
          <a:prstGeom prst="can">
            <a:avLst>
              <a:gd name="adj" fmla="val 21120"/>
            </a:avLst>
          </a:prstGeom>
          <a:solidFill>
            <a:srgbClr val="36e3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4661280" y="208764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o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354560" y="3544920"/>
            <a:ext cx="1219320" cy="0"/>
          </a:xfrm>
          <a:prstGeom prst="line">
            <a:avLst/>
          </a:prstGeom>
          <a:ln w="57240">
            <a:solidFill>
              <a:srgbClr val="e31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15"/>
          <p:cNvSpPr/>
          <p:nvPr/>
        </p:nvSpPr>
        <p:spPr>
          <a:xfrm>
            <a:off x="5962680" y="2163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16"/>
          <p:cNvSpPr/>
          <p:nvPr/>
        </p:nvSpPr>
        <p:spPr>
          <a:xfrm flipV="1">
            <a:off x="6114960" y="1671120"/>
            <a:ext cx="927360" cy="56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1463400" y="330048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43a"/>
                </a:solidFill>
                <a:latin typeface="Times New Roman"/>
              </a:rPr>
              <a:t>Scattering Intens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20"/>
          <p:cNvSpPr/>
          <p:nvPr/>
        </p:nvSpPr>
        <p:spPr>
          <a:xfrm>
            <a:off x="5650200" y="33163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43a"/>
                </a:solidFill>
                <a:latin typeface="Times New Roman"/>
              </a:rPr>
              <a:t>Dynamic Structure Facto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263640" y="13557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22"/>
          <p:cNvSpPr/>
          <p:nvPr/>
        </p:nvSpPr>
        <p:spPr>
          <a:xfrm>
            <a:off x="7115040" y="13111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I(t)I(0)&gt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1238400" y="1096920"/>
            <a:ext cx="1371600" cy="3049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2"/>
              <p:cNvSpPr txBox="1"/>
              <p:nvPr/>
            </p:nvSpPr>
            <p:spPr>
              <a:xfrm>
                <a:off x="4978440" y="2422440"/>
                <a:ext cx="3897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iq·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37" name="Picture 2" descr=""/>
          <p:cNvPicPr/>
          <p:nvPr/>
        </p:nvPicPr>
        <p:blipFill>
          <a:blip r:embed="rId2"/>
          <a:stretch/>
        </p:blipFill>
        <p:spPr>
          <a:xfrm>
            <a:off x="5556240" y="3571920"/>
            <a:ext cx="3913200" cy="24717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18"/>
          <p:cNvSpPr/>
          <p:nvPr/>
        </p:nvSpPr>
        <p:spPr>
          <a:xfrm>
            <a:off x="1467000" y="5915160"/>
            <a:ext cx="527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pecial methods for non-ergodic samples: Pusey and van Megen, 1989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9" name="Group 96"/>
          <p:cNvGrpSpPr/>
          <p:nvPr/>
        </p:nvGrpSpPr>
        <p:grpSpPr>
          <a:xfrm>
            <a:off x="3753000" y="942840"/>
            <a:ext cx="609480" cy="609480"/>
            <a:chOff x="3753000" y="942840"/>
            <a:chExt cx="609480" cy="609480"/>
          </a:xfrm>
        </p:grpSpPr>
        <p:grpSp>
          <p:nvGrpSpPr>
            <p:cNvPr id="740" name="Group 61"/>
            <p:cNvGrpSpPr/>
            <p:nvPr/>
          </p:nvGrpSpPr>
          <p:grpSpPr>
            <a:xfrm>
              <a:off x="3820680" y="1018440"/>
              <a:ext cx="496080" cy="457200"/>
              <a:chOff x="3820680" y="1018440"/>
              <a:chExt cx="496080" cy="457200"/>
            </a:xfrm>
          </p:grpSpPr>
          <p:grpSp>
            <p:nvGrpSpPr>
              <p:cNvPr id="741" name="Group 27"/>
              <p:cNvGrpSpPr/>
              <p:nvPr/>
            </p:nvGrpSpPr>
            <p:grpSpPr>
              <a:xfrm>
                <a:off x="3820680" y="1069560"/>
                <a:ext cx="203760" cy="249480"/>
                <a:chOff x="3820680" y="1069560"/>
                <a:chExt cx="203760" cy="249480"/>
              </a:xfrm>
            </p:grpSpPr>
            <p:grpSp>
              <p:nvGrpSpPr>
                <p:cNvPr id="742" name="Group 14"/>
                <p:cNvGrpSpPr/>
                <p:nvPr/>
              </p:nvGrpSpPr>
              <p:grpSpPr>
                <a:xfrm>
                  <a:off x="3820680" y="1087920"/>
                  <a:ext cx="152280" cy="198000"/>
                  <a:chOff x="3820680" y="1087920"/>
                  <a:chExt cx="152280" cy="198000"/>
                </a:xfrm>
              </p:grpSpPr>
              <p:sp>
                <p:nvSpPr>
                  <p:cNvPr id="743" name="Oval 10"/>
                  <p:cNvSpPr/>
                  <p:nvPr/>
                </p:nvSpPr>
                <p:spPr>
                  <a:xfrm rot="1740000">
                    <a:off x="3841920" y="119988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4" name="Oval 11"/>
                  <p:cNvSpPr/>
                  <p:nvPr/>
                </p:nvSpPr>
                <p:spPr>
                  <a:xfrm rot="1740000">
                    <a:off x="3940920" y="111492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Oval 12"/>
                  <p:cNvSpPr/>
                  <p:nvPr/>
                </p:nvSpPr>
                <p:spPr>
                  <a:xfrm rot="1740000">
                    <a:off x="3841560" y="108504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6" name="Group 15"/>
                <p:cNvGrpSpPr/>
                <p:nvPr/>
              </p:nvGrpSpPr>
              <p:grpSpPr>
                <a:xfrm>
                  <a:off x="3890160" y="1102320"/>
                  <a:ext cx="134280" cy="216720"/>
                  <a:chOff x="3890160" y="1102320"/>
                  <a:chExt cx="134280" cy="216720"/>
                </a:xfrm>
              </p:grpSpPr>
              <p:sp>
                <p:nvSpPr>
                  <p:cNvPr id="747" name="Oval 16"/>
                  <p:cNvSpPr/>
                  <p:nvPr/>
                </p:nvSpPr>
                <p:spPr>
                  <a:xfrm rot="20250600">
                    <a:off x="3996720" y="123120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8" name="Oval 17"/>
                  <p:cNvSpPr/>
                  <p:nvPr/>
                </p:nvSpPr>
                <p:spPr>
                  <a:xfrm rot="20250600">
                    <a:off x="3991680" y="110088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9" name="Oval 18"/>
                  <p:cNvSpPr/>
                  <p:nvPr/>
                </p:nvSpPr>
                <p:spPr>
                  <a:xfrm rot="20250600">
                    <a:off x="3906720" y="116028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50" name="Oval 20"/>
                <p:cNvSpPr/>
                <p:nvPr/>
              </p:nvSpPr>
              <p:spPr>
                <a:xfrm rot="5232600">
                  <a:off x="3900240" y="1087560"/>
                  <a:ext cx="111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1" name="Oval 21"/>
                <p:cNvSpPr/>
                <p:nvPr/>
              </p:nvSpPr>
              <p:spPr>
                <a:xfrm rot="5232600">
                  <a:off x="3934440" y="1032120"/>
                  <a:ext cx="111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2" name="Oval 22"/>
                <p:cNvSpPr/>
                <p:nvPr/>
              </p:nvSpPr>
              <p:spPr>
                <a:xfrm rot="5232600">
                  <a:off x="3900600" y="1232280"/>
                  <a:ext cx="111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3" name="Group 28"/>
              <p:cNvGrpSpPr/>
              <p:nvPr/>
            </p:nvGrpSpPr>
            <p:grpSpPr>
              <a:xfrm>
                <a:off x="4051800" y="1091520"/>
                <a:ext cx="264960" cy="267120"/>
                <a:chOff x="4051800" y="1091520"/>
                <a:chExt cx="264960" cy="267120"/>
              </a:xfrm>
            </p:grpSpPr>
            <p:grpSp>
              <p:nvGrpSpPr>
                <p:cNvPr id="754" name="Group 14"/>
                <p:cNvGrpSpPr/>
                <p:nvPr/>
              </p:nvGrpSpPr>
              <p:grpSpPr>
                <a:xfrm>
                  <a:off x="4051800" y="1141560"/>
                  <a:ext cx="120600" cy="217080"/>
                  <a:chOff x="4051800" y="1141560"/>
                  <a:chExt cx="120600" cy="217080"/>
                </a:xfrm>
              </p:grpSpPr>
              <p:sp>
                <p:nvSpPr>
                  <p:cNvPr id="755" name="Oval 10"/>
                  <p:cNvSpPr/>
                  <p:nvPr/>
                </p:nvSpPr>
                <p:spPr>
                  <a:xfrm rot="21118800">
                    <a:off x="4127040" y="126900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6" name="Oval 11"/>
                  <p:cNvSpPr/>
                  <p:nvPr/>
                </p:nvSpPr>
                <p:spPr>
                  <a:xfrm rot="21118800">
                    <a:off x="4155120" y="114156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7" name="Oval 12"/>
                  <p:cNvSpPr/>
                  <p:nvPr/>
                </p:nvSpPr>
                <p:spPr>
                  <a:xfrm rot="21118800">
                    <a:off x="4057920" y="117756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8" name="Group 15"/>
                <p:cNvGrpSpPr/>
                <p:nvPr/>
              </p:nvGrpSpPr>
              <p:grpSpPr>
                <a:xfrm>
                  <a:off x="4119840" y="1117080"/>
                  <a:ext cx="196920" cy="155880"/>
                  <a:chOff x="4119840" y="1117080"/>
                  <a:chExt cx="196920" cy="155880"/>
                </a:xfrm>
              </p:grpSpPr>
              <p:sp>
                <p:nvSpPr>
                  <p:cNvPr id="759" name="Oval 16"/>
                  <p:cNvSpPr/>
                  <p:nvPr/>
                </p:nvSpPr>
                <p:spPr>
                  <a:xfrm rot="18028800">
                    <a:off x="4269600" y="120096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0" name="Oval 17"/>
                  <p:cNvSpPr/>
                  <p:nvPr/>
                </p:nvSpPr>
                <p:spPr>
                  <a:xfrm rot="18028800">
                    <a:off x="4187160" y="109980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1" name="Oval 18"/>
                  <p:cNvSpPr/>
                  <p:nvPr/>
                </p:nvSpPr>
                <p:spPr>
                  <a:xfrm rot="18028800">
                    <a:off x="4155120" y="1198440"/>
                    <a:ext cx="1116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62" name="Oval 20"/>
                <p:cNvSpPr/>
                <p:nvPr/>
              </p:nvSpPr>
              <p:spPr>
                <a:xfrm rot="3010800">
                  <a:off x="4106520" y="1144080"/>
                  <a:ext cx="111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3" name="Oval 21"/>
                <p:cNvSpPr/>
                <p:nvPr/>
              </p:nvSpPr>
              <p:spPr>
                <a:xfrm rot="3010800">
                  <a:off x="4100400" y="1079280"/>
                  <a:ext cx="111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4" name="Oval 22"/>
                <p:cNvSpPr/>
                <p:nvPr/>
              </p:nvSpPr>
              <p:spPr>
                <a:xfrm rot="3010800">
                  <a:off x="4194000" y="1259280"/>
                  <a:ext cx="111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65" name="Group 15"/>
              <p:cNvGrpSpPr/>
              <p:nvPr/>
            </p:nvGrpSpPr>
            <p:grpSpPr>
              <a:xfrm>
                <a:off x="3885480" y="1296360"/>
                <a:ext cx="204840" cy="149760"/>
                <a:chOff x="3885480" y="1296360"/>
                <a:chExt cx="204840" cy="149760"/>
              </a:xfrm>
            </p:grpSpPr>
            <p:sp>
              <p:nvSpPr>
                <p:cNvPr id="766" name="Oval 16"/>
                <p:cNvSpPr/>
                <p:nvPr/>
              </p:nvSpPr>
              <p:spPr>
                <a:xfrm rot="14428800">
                  <a:off x="4044600" y="1279800"/>
                  <a:ext cx="11520" cy="85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Oval 17"/>
                <p:cNvSpPr/>
                <p:nvPr/>
              </p:nvSpPr>
              <p:spPr>
                <a:xfrm rot="14428800">
                  <a:off x="3919680" y="1297080"/>
                  <a:ext cx="11520" cy="85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8" name="Oval 18"/>
                <p:cNvSpPr/>
                <p:nvPr/>
              </p:nvSpPr>
              <p:spPr>
                <a:xfrm rot="14428800">
                  <a:off x="3989520" y="1377360"/>
                  <a:ext cx="11520" cy="85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69" name="Oval 20"/>
              <p:cNvSpPr/>
              <p:nvPr/>
            </p:nvSpPr>
            <p:spPr>
              <a:xfrm rot="21010200">
                <a:off x="3925800" y="1382040"/>
                <a:ext cx="11160" cy="9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1"/>
              <p:cNvSpPr/>
              <p:nvPr/>
            </p:nvSpPr>
            <p:spPr>
              <a:xfrm rot="21010200">
                <a:off x="3869280" y="1374120"/>
                <a:ext cx="10440" cy="9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Oval 22"/>
              <p:cNvSpPr/>
              <p:nvPr/>
            </p:nvSpPr>
            <p:spPr>
              <a:xfrm rot="21010200">
                <a:off x="4061520" y="1349280"/>
                <a:ext cx="10440" cy="9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Oval 20"/>
              <p:cNvSpPr/>
              <p:nvPr/>
            </p:nvSpPr>
            <p:spPr>
              <a:xfrm rot="21010200">
                <a:off x="4070160" y="1025640"/>
                <a:ext cx="10440" cy="9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"/>
              <p:cNvSpPr/>
              <p:nvPr/>
            </p:nvSpPr>
            <p:spPr>
              <a:xfrm rot="21010200">
                <a:off x="4012560" y="1018440"/>
                <a:ext cx="10440" cy="9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4" name="Oval 95"/>
            <p:cNvSpPr/>
            <p:nvPr/>
          </p:nvSpPr>
          <p:spPr>
            <a:xfrm>
              <a:off x="3753000" y="94284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5" name="Object 3"/>
              <p:cNvSpPr txBox="1"/>
              <p:nvPr/>
            </p:nvSpPr>
            <p:spPr>
              <a:xfrm>
                <a:off x="4095720" y="6256440"/>
                <a:ext cx="1905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m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1100160" y="1725480"/>
                <a:ext cx="24764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5"/>
              <p:cNvSpPr txBox="1"/>
              <p:nvPr/>
            </p:nvSpPr>
            <p:spPr>
              <a:xfrm>
                <a:off x="1081080" y="2700360"/>
                <a:ext cx="25336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3"/>
          <p:cNvSpPr/>
          <p:nvPr/>
        </p:nvSpPr>
        <p:spPr>
          <a:xfrm>
            <a:off x="907920" y="166680"/>
            <a:ext cx="8775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Modifying  aggregate structure: Magnesium sulfat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1"/>
          <a:stretch/>
        </p:blipFill>
        <p:spPr>
          <a:xfrm>
            <a:off x="990720" y="1096920"/>
            <a:ext cx="4495680" cy="4336920"/>
          </a:xfrm>
          <a:prstGeom prst="rect">
            <a:avLst/>
          </a:prstGeom>
          <a:ln w="0">
            <a:noFill/>
          </a:ln>
        </p:spPr>
      </p:pic>
      <p:pic>
        <p:nvPicPr>
          <p:cNvPr id="780" name="Object 2" descr=""/>
          <p:cNvPicPr/>
          <p:nvPr/>
        </p:nvPicPr>
        <p:blipFill>
          <a:blip r:embed="rId2"/>
          <a:stretch/>
        </p:blipFill>
        <p:spPr>
          <a:xfrm>
            <a:off x="5394240" y="3352680"/>
            <a:ext cx="3629160" cy="6224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11"/>
          <p:cNvSpPr/>
          <p:nvPr/>
        </p:nvSpPr>
        <p:spPr>
          <a:xfrm>
            <a:off x="3352680" y="16257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PEO WSR-301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Box 12"/>
          <p:cNvSpPr/>
          <p:nvPr/>
        </p:nvSpPr>
        <p:spPr>
          <a:xfrm>
            <a:off x="1600200" y="373392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MgS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entury Gothic"/>
                <a:ea typeface="Century Gothic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5410080" y="1371600"/>
            <a:ext cx="305136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q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  <a:ea typeface="Century Gothic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&lt;&lt;1 : Center of mass diffusion : Γ~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Gothic"/>
                <a:ea typeface="Century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q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  <a:ea typeface="Century Gothic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&gt;&gt;1 :  Internal coil motions : Γ~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Gothic"/>
                <a:ea typeface="Century Gothic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1523880" y="5573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~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  <a:ea typeface="Century Gothic"/>
              </a:rPr>
              <a:t>3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(No salt)                                 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  <a:ea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 ~ D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  <a:ea typeface="Century Gothic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(With salt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10"/>
          <p:cNvSpPr/>
          <p:nvPr/>
        </p:nvSpPr>
        <p:spPr>
          <a:xfrm>
            <a:off x="3962520" y="5781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187F-1AB5-476A-B5AB-D703ED6DADBA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1"/>
          <p:cNvSpPr/>
          <p:nvPr/>
        </p:nvSpPr>
        <p:spPr>
          <a:xfrm>
            <a:off x="1298520" y="1025640"/>
            <a:ext cx="7078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he molecular architecture of polymer aggregates/agglomerates and swollen networks (gels) are not understood. 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 gels, both the Flory-Rehner approach as well as the de Gennes c* model fail to describe structures commonly observed with neutron scattering. 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 aggregation of aqueous polymers the structure model or a “phase diagram” model may be more appropriate to correlate aggregate/gel microstructure with measured rheological properties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ign of consumer products based on macromolecular topology of these materials is difficult in the absence of a viable structural model that agrees with structural measurements using SANS. 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e have proposed the Gel-Tensile Blob Model that can be used to describe SANS measurements as well as to predict molecular weight between crosslinks, branch structure, branch functionality and thermodynamic characteristics of gels.  A synthesis/structure/property relationship can be developed for these materials using this approach.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he project can couple efforts using SANS, theory, dynamic light scattering and rheology to develop a comprehensive understanding of gels, polymer aggregation and agglomeration in rheologically complex fluid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Box 2"/>
          <p:cNvSpPr/>
          <p:nvPr/>
        </p:nvSpPr>
        <p:spPr>
          <a:xfrm>
            <a:off x="3222720" y="3240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ject Overview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/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5FB-CE53-41EB-B3C3-3DDED158268A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052640" y="10936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the structure of gels and polymer aggregates/agglomerates using neutron scattering (SANS), x-ray scattering (SAXS), dynamic light scattering (DLS) and static light scattering (SAL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ermodynamic basis for polymer aggregation, “phase-diagram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fy gel structure, molecular weight between crosslinks, crosslink functionality from SANS measur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82760" y="4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B10B-FFF9-4D31-9A3A-55367DE10C1E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3996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gel product lines for synthetic control of proper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ility to design and control gel functional proper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complex rheological phenomena associated with polymer aggregation/agglom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 complex colloidal rheology to chemistry and thermodynamic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6816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or work and project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3B49-0CC9-4697-947A-3F8056DB4C9E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07640" y="1130040"/>
            <a:ext cx="79707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relationship between rheological enhancement, polymer microstructure, and polymer chain chemistry in water soluble polymers and g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scattering and rheological methods to characterize aggregation and gelation in a range of systems including water soluble and water borne poly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samples for gel structure/property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S on gels swollen in deuterated sol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ing of SANS with Gel-Tensile Blob Model for molecular weight between crosslinks, functionality and thermodynamics of g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ple rheology and GTB model SANS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6816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or work and project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F5E-6A68-4F84-A891-2D297D0706BE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1136520" y="1011240"/>
            <a:ext cx="7831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The molecular architecture of polymer aggregates/agglomerates and swollen networks (gels) are not understood.  </a:t>
            </a: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or gels, both the Flory-Rehner approach as well as the de Gennes c* model fail to describe structures commonly observed with neutron scattering.  </a:t>
            </a: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or aggregation of aqueous polymers the structure model or a “phase diagram” model may be more appropriate to correlate aggregate/gel microstructure with measured rheological properties</a:t>
            </a: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Design of consumer products based on macromolecular topology of these materials is difficult in the absence of a viable structural model that agrees with structural measurements using SANS.  </a:t>
            </a: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We have proposed the Gel-Tensile Blob Model that can be used to describe SANS measurements as well as to predict molecular weight between crosslinks, branch structure, branch functionality and thermodynamic characteristics of gels.  A synthesis/structure/property relationship can be developed for these materials using this approach. </a:t>
            </a: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The project can couple efforts using SANS, theory, dynamic light scattering and rheology to develop a comprehensive understanding of gels, polymer aggregation and agglomeration in rheologically complex fluids.</a:t>
            </a:r>
            <a:endParaRPr b="1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002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ementary Mate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D523-4459-4B5E-BC04-7D3EE437E2B9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114-04DF-435D-9575-46E05E053E48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1" name="Picture 6" descr=""/>
          <p:cNvPicPr/>
          <p:nvPr/>
        </p:nvPicPr>
        <p:blipFill>
          <a:blip r:embed="rId1"/>
          <a:stretch/>
        </p:blipFill>
        <p:spPr>
          <a:xfrm>
            <a:off x="1249200" y="770040"/>
            <a:ext cx="7380360" cy="480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C7C-9077-4865-AF3B-87E532FB0022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tretch/>
        </p:blipFill>
        <p:spPr>
          <a:xfrm>
            <a:off x="1200240" y="237960"/>
            <a:ext cx="3894120" cy="34862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2"/>
          <a:stretch/>
        </p:blipFill>
        <p:spPr>
          <a:xfrm>
            <a:off x="4543560" y="2806560"/>
            <a:ext cx="4600440" cy="352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B54-F4CD-49FD-AD36-3B4A8B1C8020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1219320" y="2336760"/>
            <a:ext cx="374652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9" name="Picture 6" descr=""/>
          <p:cNvPicPr/>
          <p:nvPr/>
        </p:nvPicPr>
        <p:blipFill>
          <a:blip r:embed="rId1"/>
          <a:stretch/>
        </p:blipFill>
        <p:spPr>
          <a:xfrm>
            <a:off x="1552680" y="249120"/>
            <a:ext cx="6964200" cy="59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7:31:04Z</dcterms:created>
  <dc:creator>calbus</dc:creator>
  <dc:description/>
  <dc:language>en-US</dc:language>
  <cp:lastModifiedBy>Gregory</cp:lastModifiedBy>
  <dcterms:modified xsi:type="dcterms:W3CDTF">2012-02-07T17:04:45Z</dcterms:modified>
  <cp:revision>506</cp:revision>
  <dc:subject/>
  <dc:title>Division of Industrial Innovation  and Partnerships  (IIP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Type">
    <vt:lpwstr>Presentations</vt:lpwstr>
  </property>
  <property fmtid="{D5CDD505-2E9C-101B-9397-08002B2CF9AE}" pid="4" name="Document contents">
    <vt:lpwstr/>
  </property>
  <property fmtid="{D5CDD505-2E9C-101B-9397-08002B2CF9AE}" pid="5" name="Team">
    <vt:lpwstr>;#General IIP;#</vt:lpwstr>
  </property>
</Properties>
</file>